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11669-E338-4451-A02F-7E2A0579D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36DA7-DF6C-4EE2-A740-4B6F7A95C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96F1E-854A-469A-A601-7EF865BFB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36CD8-FE55-42F9-9FD8-BC2489169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2C435-EB57-48D3-88C2-5B4C457DB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27F75-95A5-41E0-8E44-9D7CC9C1E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40509-1587-49EF-AC37-75A93F9F2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71E8D-C36C-4261-8857-F6ED00FF1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C51DD-F00F-4676-962A-9E1D60410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8EE6C-E9F2-408A-A77A-29880F575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96683-6E92-4A3D-976C-3AC082A87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03144-9710-483C-9566-4B5899B84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A6BBB-B046-4E88-899F-BF4FB81580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143000" y="76320"/>
            <a:ext cx="6629400" cy="6629400"/>
            <a:chOff x="1143000" y="76320"/>
            <a:chExt cx="6629400" cy="6629400"/>
          </a:xfrm>
        </p:grpSpPr>
        <p:sp>
          <p:nvSpPr>
            <p:cNvPr id="42" name=""/>
            <p:cNvSpPr/>
            <p:nvPr/>
          </p:nvSpPr>
          <p:spPr>
            <a:xfrm>
              <a:off x="1143000" y="76320"/>
              <a:ext cx="6629400" cy="662940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4495680" y="76320"/>
              <a:ext cx="0" cy="6629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600200" y="1752480"/>
              <a:ext cx="5715000" cy="3353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V="1">
              <a:off x="1600200" y="1905120"/>
              <a:ext cx="5791320" cy="3124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4T18:37:54Z</dcterms:created>
  <dc:creator>Dina Winterton</dc:creator>
  <dc:description/>
  <dc:language>en-US</dc:language>
  <cp:lastModifiedBy>Dina Winterton</cp:lastModifiedBy>
  <dcterms:modified xsi:type="dcterms:W3CDTF">2010-03-24T18:44:22Z</dcterms:modified>
  <cp:revision>2</cp:revision>
  <dc:subject/>
  <dc:title>Slide 1</dc:title>
</cp:coreProperties>
</file>